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A71D-9369-4CF8-9EE3-C26CE3F61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F401-055A-4E91-97B0-4FF99E92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419A-6C6B-4F42-9EE2-EEA333901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D0ED-7A04-452F-A7EB-E0F9CE0AC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5524-1E79-4315-B029-320CE346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E9DE-4A12-42B1-AF39-FFC846E7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5CD7-3B2C-4630-8859-DCA1F4B3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3E73-E4DA-478B-8DAB-6C28569A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5B9E-6D6A-4B2E-8AEB-79E9F446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9A7D-947A-4B55-BC15-A4435597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AA41-C4F9-4A1F-B953-4DB8CF6B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DDCF-3429-461B-BC6A-148BAC0C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BFDC-B1A9-4A0C-8EA3-7565E2DFA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hotels.lonelyplanet.com/puerto-rico/dorado-r1974497/hyatt-hacienda-del-mar-q2323744/?SearchDetails=L!10000!!-1!1974497!!!-1!-1!-1!-1!!!!57.59.27.4.52!!!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ill Sans Ultra Bold Condensed"/>
              </a:rPr>
              <a:t>Mis vacaciones en Puerto Ric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Ultra Bold Condensed"/>
              </a:rPr>
              <a:t>By: Meera Pa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Ultra Bold Condensed"/>
              </a:rPr>
              <a:t>Querido Madre y Padre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Ultra Bold Condensed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Gill Sans Ultra Bold Condensed"/>
              </a:rPr>
              <a:t>Cómo estan ustedes? Hace mucho calor. El hotel es muy grande y muy bueno. La playa es increíble y la piscina es grande también. La cama es comóda y la silla también. Mis amigos están emocion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Ultra Bold Condensed"/>
              </a:rPr>
              <a:t>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Ultra Bold Condensed"/>
              </a:rPr>
              <a:t>Un abrazo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Ultra Bold Condensed"/>
              </a:rPr>
              <a:t>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Ultra Bold Condensed"/>
              </a:rPr>
              <a:t>Me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Exterio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33920" y="4343400"/>
            <a:ext cx="18460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Ultra Bold Condensed"/>
              </a:rPr>
              <a:t>Querido Kaitlyn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Ultra Bold Condensed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Ultra Bold Condensed"/>
              </a:rPr>
              <a:t>No llevé mi toalla playera. Ahora, tengo que comprar una. Hay tantas para eligir. También me olvide mi crema protecto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Ultra Bold Condensed"/>
              </a:rPr>
              <a:t>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Ultra Bold Condensed"/>
              </a:rPr>
              <a:t>Un abr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Ultra Bold Condensed"/>
              </a:rPr>
              <a:t>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Ultra Bold Condensed"/>
              </a:rPr>
              <a:t>Me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Ultra Bold Condensed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" y="4191120"/>
            <a:ext cx="2305080" cy="1981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191120" y="426708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0574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Ultra Bold Condensed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Gill Sans Ultra Bold Condensed"/>
              </a:rPr>
              <a:t>El agua es muy fría aquí.</a:t>
            </a:r>
            <a:r>
              <a:rPr b="0" lang="en-US" sz="3200" spc="-1" strike="noStrike">
                <a:solidFill>
                  <a:srgbClr val="000000"/>
                </a:solidFill>
                <a:latin typeface="Gill Sans Ultra Bold Condensed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Gill Sans Ultra Bold Condensed"/>
              </a:rPr>
              <a:t>Hoy, buceé en la playa. Tomé el sol. Después me senté en mi toalla playera. Escuché mi ipod. No practiqué la tabla hawain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Diver swimming under a coral ledge in Blue Reef."/>
          <p:cNvPicPr/>
          <p:nvPr/>
        </p:nvPicPr>
        <p:blipFill>
          <a:blip r:embed="rId2"/>
          <a:stretch/>
        </p:blipFill>
        <p:spPr>
          <a:xfrm>
            <a:off x="3276720" y="4648320"/>
            <a:ext cx="2895480" cy="2014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23880" y="1676520"/>
            <a:ext cx="3308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1752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304920"/>
            <a:ext cx="251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Ultra Bold Condensed"/>
              </a:rPr>
              <a:t>Querida Señora Rouss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Ultra Bold Condensed"/>
              </a:rPr>
              <a:t>Querido Bella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Ultra Bold Condensed"/>
              </a:rPr>
              <a:t>Hoy fui a la isla de Vieques. El sol bahia tiene caballos hermosos. Después, jugué al tenis. Luego fuimos al centro comercial. Fue muy divertid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Beautiful Blue Beach and Isla de la Chiva on vieuques island"/>
          <p:cNvPicPr/>
          <p:nvPr/>
        </p:nvPicPr>
        <p:blipFill>
          <a:blip r:embed="rId2"/>
          <a:stretch/>
        </p:blipFill>
        <p:spPr>
          <a:xfrm>
            <a:off x="609480" y="3733920"/>
            <a:ext cx="3714840" cy="2797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bouganvilla in Isabel Segunda"/>
          <p:cNvPicPr/>
          <p:nvPr/>
        </p:nvPicPr>
        <p:blipFill>
          <a:blip r:embed="rId3"/>
          <a:stretch/>
        </p:blipFill>
        <p:spPr>
          <a:xfrm>
            <a:off x="4952880" y="4343400"/>
            <a:ext cx="876600" cy="1790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eastern puerto rico and vieques satellite photo"/>
          <p:cNvPicPr/>
          <p:nvPr/>
        </p:nvPicPr>
        <p:blipFill>
          <a:blip r:embed="rId4"/>
          <a:stretch/>
        </p:blipFill>
        <p:spPr>
          <a:xfrm>
            <a:off x="6324480" y="4800600"/>
            <a:ext cx="215280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Ultra Bold Condensed"/>
              </a:rPr>
              <a:t>Querido Madre y Padre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Ultra Bold Condensed"/>
              </a:rPr>
              <a:t>Hay mucha ropa. También compré mucha de ropa. Hoy es mi último día aquí. Fui tengo muy diversión. Te tengo algunas cos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Ultra Bold Condensed"/>
              </a:rPr>
              <a:t>Hasta pront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219320" y="44197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715000" y="4343400"/>
            <a:ext cx="194328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4:11:56Z</dcterms:created>
  <dc:creator>patelmee</dc:creator>
  <dc:description/>
  <dc:language>en-US</dc:language>
  <cp:lastModifiedBy>patelmee</cp:lastModifiedBy>
  <dcterms:modified xsi:type="dcterms:W3CDTF">2011-12-01T19:08:33Z</dcterms:modified>
  <cp:revision>8</cp:revision>
  <dc:subject/>
  <dc:title>Mi vacaciones en Puerto Rico</dc:title>
</cp:coreProperties>
</file>